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8DB-82CC-4C40-BC57-B32FB9FB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F90-E199-43CA-ABAB-4A074AF7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4FB-E016-4D9E-8153-B465BD39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AF7-7058-457C-A5E6-E7927BE4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D639-CC03-4F6A-94FE-2856DEA5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C65C-CAEB-41ED-A839-0B5E8A4B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BCBF-C9D8-4B9B-ADE0-D690D4DD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04BE-4566-4EDB-8DAB-D3EEC22F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E7D2-998A-4833-BE06-8DD9CD1C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AB21-FDB6-42EE-BC9B-E58A3428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D92D-1112-451E-98FC-D0CA250C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D79-FE33-4919-A91F-63FA3034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DD9C-FFE8-4C7A-B5FD-5871EFC6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788F-3D6F-4BD9-A156-C7C94208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4D1C-A891-4029-A641-AC8CEE97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BB29-DA60-475E-BCDF-5C055644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0347-7651-4B7D-8111-A8431815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E81-7E0C-41A1-94E5-827DAF8A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9DB-A722-4433-8658-9A0B00DE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FAE-88C0-4B0E-804E-482D65A5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F73-91BD-4F7B-B98B-8C9BC5F2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BB9-E29A-4C42-949B-CC5A3598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615-7151-465A-84FF-7E32ED13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DBF-171E-4D51-8E1B-390124C2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3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4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27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32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33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34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35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36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37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41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42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43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44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45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46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47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48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49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50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51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52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53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54"/>
          <p:cNvSpPr/>
          <p:nvPr/>
        </p:nvSpPr>
        <p:spPr>
          <a:xfrm>
            <a:off x="-12600" y="0"/>
            <a:ext cx="9156600" cy="1600200"/>
          </a:xfrm>
          <a:prstGeom prst="pie">
            <a:avLst/>
          </a:pr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55"/>
          <p:cNvSpPr/>
          <p:nvPr/>
        </p:nvSpPr>
        <p:spPr>
          <a:xfrm>
            <a:off x="-12600" y="-12600"/>
            <a:ext cx="9156600" cy="1353960"/>
          </a:xfrm>
          <a:prstGeom prst="pie">
            <a:avLst/>
          </a:pr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56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D54E-163F-44CB-A918-5FE77C7E8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12240" y="692280"/>
            <a:ext cx="9093600" cy="6165360"/>
            <a:chOff x="12240" y="692280"/>
            <a:chExt cx="9093600" cy="6165360"/>
          </a:xfrm>
        </p:grpSpPr>
        <p:sp>
          <p:nvSpPr>
            <p:cNvPr id="99" name="Line 3"/>
            <p:cNvSpPr/>
            <p:nvPr/>
          </p:nvSpPr>
          <p:spPr>
            <a:xfrm flipH="1">
              <a:off x="12600" y="1315080"/>
              <a:ext cx="6769440" cy="421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 flipH="1">
              <a:off x="12600" y="1315080"/>
              <a:ext cx="6769440" cy="4968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 flipH="1">
              <a:off x="361800" y="1315080"/>
              <a:ext cx="6420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 flipH="1">
              <a:off x="1403640" y="1315080"/>
              <a:ext cx="537840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2382480" y="1315080"/>
              <a:ext cx="43995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3368880" y="1315080"/>
              <a:ext cx="34131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4237200" y="1315080"/>
              <a:ext cx="2544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5101200" y="1315080"/>
              <a:ext cx="1680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5970600" y="1315080"/>
              <a:ext cx="8114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6782040" y="1315080"/>
              <a:ext cx="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12600" y="1315080"/>
              <a:ext cx="6769440" cy="3648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 flipH="1">
              <a:off x="12600" y="1315080"/>
              <a:ext cx="6769440" cy="314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600" y="1315080"/>
              <a:ext cx="6769440" cy="270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 flipH="1">
              <a:off x="12600" y="1315080"/>
              <a:ext cx="6769440" cy="226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 flipH="1">
              <a:off x="12600" y="1334880"/>
              <a:ext cx="6701400" cy="1870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12600" y="1315080"/>
              <a:ext cx="6769440" cy="151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12600" y="1315080"/>
              <a:ext cx="6769440" cy="119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12600" y="1315080"/>
              <a:ext cx="6769440" cy="877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>
              <a:off x="12600" y="1315080"/>
              <a:ext cx="6769440" cy="62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>
              <a:off x="12600" y="1315080"/>
              <a:ext cx="6769440" cy="37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12600" y="1315080"/>
              <a:ext cx="6769440" cy="18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6779160" y="131652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6779160" y="1297800"/>
              <a:ext cx="2326680" cy="359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6799320" y="1334880"/>
              <a:ext cx="2306520" cy="495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6794640" y="1336320"/>
              <a:ext cx="191808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6793560" y="1349280"/>
              <a:ext cx="1275480" cy="5508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6785640" y="1336320"/>
              <a:ext cx="63756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6779160" y="1297800"/>
              <a:ext cx="2326680" cy="268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6821640" y="1340640"/>
              <a:ext cx="2284200" cy="189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6779160" y="1316520"/>
              <a:ext cx="2326680" cy="128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6840360" y="1347840"/>
              <a:ext cx="2265120" cy="715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6794280" y="1336320"/>
              <a:ext cx="2311200" cy="294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6779160" y="1297800"/>
              <a:ext cx="2326680" cy="177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36"/>
            <p:cNvGrpSpPr/>
            <p:nvPr/>
          </p:nvGrpSpPr>
          <p:grpSpPr>
            <a:xfrm>
              <a:off x="12600" y="692280"/>
              <a:ext cx="9092880" cy="1000800"/>
              <a:chOff x="12600" y="692280"/>
              <a:chExt cx="9092880" cy="1000800"/>
            </a:xfrm>
          </p:grpSpPr>
          <p:sp>
            <p:nvSpPr>
              <p:cNvPr id="133" name="Line 37"/>
              <p:cNvSpPr/>
              <p:nvPr/>
            </p:nvSpPr>
            <p:spPr>
              <a:xfrm flipH="1">
                <a:off x="12600" y="169308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38"/>
              <p:cNvSpPr/>
              <p:nvPr/>
            </p:nvSpPr>
            <p:spPr>
              <a:xfrm flipH="1">
                <a:off x="12600" y="1323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39"/>
              <p:cNvSpPr/>
              <p:nvPr/>
            </p:nvSpPr>
            <p:spPr>
              <a:xfrm flipH="1">
                <a:off x="15840" y="99000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40"/>
              <p:cNvSpPr/>
              <p:nvPr/>
            </p:nvSpPr>
            <p:spPr>
              <a:xfrm flipH="1">
                <a:off x="15840" y="69228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41"/>
            <p:cNvSpPr/>
            <p:nvPr/>
          </p:nvSpPr>
          <p:spPr>
            <a:xfrm flipH="1">
              <a:off x="12240" y="31831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 flipH="1" flipV="1">
              <a:off x="12240" y="2756520"/>
              <a:ext cx="9093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 flipH="1">
              <a:off x="12240" y="2365560"/>
              <a:ext cx="9093240" cy="12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 flipH="1">
              <a:off x="53640" y="205488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 flipH="1" flipV="1">
              <a:off x="12240" y="1789920"/>
              <a:ext cx="9093240" cy="15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 flipH="1">
              <a:off x="12240" y="1620000"/>
              <a:ext cx="909324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 flipH="1" flipV="1">
              <a:off x="12240" y="1472040"/>
              <a:ext cx="9093240" cy="24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 flipH="1">
              <a:off x="12600" y="14191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 flipH="1">
              <a:off x="12240" y="13633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54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55"/>
            <p:cNvSpPr/>
            <p:nvPr/>
          </p:nvSpPr>
          <p:spPr>
            <a:xfrm flipH="1">
              <a:off x="360" y="0"/>
              <a:ext cx="9142560" cy="2158920"/>
            </a:xfrm>
            <a:prstGeom prst="pie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56"/>
            <p:cNvSpPr/>
            <p:nvPr/>
          </p:nvSpPr>
          <p:spPr>
            <a:xfrm flipH="1">
              <a:off x="12240" y="0"/>
              <a:ext cx="9131400" cy="1752480"/>
            </a:xfrm>
            <a:prstGeom prst="pie">
              <a:avLst/>
            </a:pr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57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8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9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1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D16B-9655-4572-9209-80D98AEC558C}" type="slidenum">
              <a:rPr b="0" lang="en-US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nduk.ru/Encycl/HerbFood/T0045.htm" TargetMode="External"/><Relationship Id="rId2" Type="http://schemas.openxmlformats.org/officeDocument/2006/relationships/hyperlink" Target="http://www.sunduk.ru/Encycl/HerbFood/T0038.htm" TargetMode="External"/><Relationship Id="rId3" Type="http://schemas.openxmlformats.org/officeDocument/2006/relationships/hyperlink" Target="http://www.sunduk.ru/Encycl/HerbFood/T0033.htm" TargetMode="External"/><Relationship Id="rId4" Type="http://schemas.openxmlformats.org/officeDocument/2006/relationships/hyperlink" Target="http://www.sunduk.ru/Encycl/HerbFood/T0043.htm" TargetMode="External"/><Relationship Id="rId5" Type="http://schemas.openxmlformats.org/officeDocument/2006/relationships/hyperlink" Target="http://www.sunduk.ru/Encycl/HerbFood/T0025.htm" TargetMode="External"/><Relationship Id="rId6" Type="http://schemas.openxmlformats.org/officeDocument/2006/relationships/hyperlink" Target="http://www.sunduk.ru/Encycl/HerbFood/T0030.htm" TargetMode="External"/><Relationship Id="rId7" Type="http://schemas.openxmlformats.org/officeDocument/2006/relationships/hyperlink" Target="http://www.sunduk.ru/Encycl/HerbFood/T0034.htm" TargetMode="External"/><Relationship Id="rId8" Type="http://schemas.openxmlformats.org/officeDocument/2006/relationships/hyperlink" Target="http://www.sunduk.ru/Encycl/HerbFood/T0026.htm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2057400" y="762120"/>
            <a:ext cx="6172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2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итамин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838080" y="129528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оказывает влияние на рост человека, улучшает состояние кожи, способствует сопротивлению организма инфекции, обеспечивает рост и развитие эпителиальных клеток, входит в состав зрительного пигмента палочек сетчатки глаза - родопсина и зрительного пигмента колбочек - йодопсина. Эти пигменты регулируют темновую адаптацию глаз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 rot="1961400">
            <a:off x="380520" y="3962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733920" y="4527000"/>
            <a:ext cx="541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наблюдаются конъюнктивиты, характерна сухость роговицы - ксерофтальмия. Отмечается также похудение (вплоть до истощения), у детей - задержка роста. Симптомы избытка витамина А: сонливость, вялость, головная боль, гиперемия лица, тошнота, рвота,                                                 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429000" y="28195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Недостаток витамина A приводит к ухудшению зрения в сумерках ("куриной слепоте"). Проявления гиповитаминоза А: кожа становится сухой и шероховатой на руках и икрах ног, шелушится, ороговение волосяных фолликулов делает ее шершавой. Ногти сухие, тусклые. Часто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2209680"/>
            <a:ext cx="3822840" cy="46483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3809880" y="2055600"/>
            <a:ext cx="5334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Comic Sans MS"/>
              </a:rPr>
              <a:t>Витамин А обнаружен только в продуктах животного происхождения (рыбий жир, жир молока, сливочное масло, сливки, творог, сыр, яичный желток, жир печени и жир других органов - сердца, мозга). Однако в организме человека (в кишечной стенке и печени) витамин А может образовываться из некоторых пигментов, называемых каротинами, которые широко распространены в растительных продуктах. Наибольшей активностью обладает b-каротин (провитамин А) 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3196800"/>
            <a:ext cx="883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читается, что 1 мг b-каротина по эффективности соответствует 0,17 мг витамина А (ретинол). Много содержится каротина в рябине, абрикосах, шиповнике, черной смородине, облепихе, желтых тыквах, арбузах, в красном перце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1"/>
              </a:rPr>
              <a:t>шпин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капусте, ботве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2"/>
              </a:rPr>
              <a:t>сельдерея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3"/>
              </a:rPr>
              <a:t>петруш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4"/>
              </a:rPr>
              <a:t>укроп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5"/>
              </a:rPr>
              <a:t>кресс-сал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6"/>
              </a:rPr>
              <a:t>моркови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7"/>
              </a:rPr>
              <a:t>щавел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8"/>
              </a:rPr>
              <a:t>лу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перце, крапиве, одуванчике, клевере. Отмечают, что количество витаминов изменяется в соответствии с окраской продуктов в красновато-желтый цвет: чем интенсивнее эта окраска, тем больше витамина в продукте. Количество витамина в жирах зависит от состава пищи, которой питается животное. Если пища животного богата витаминами или провитаминами, то жир его содержит высокий процент витамина; так, рыбий жир в 100 раз богаче витамином А, чем сливочное масло, потому что растительный и животный планктон, которым питаются рыбы, очень богат витамином 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9"/>
          <a:stretch/>
        </p:blipFill>
        <p:spPr>
          <a:xfrm>
            <a:off x="2514600" y="22860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0" y="37458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уточная потребность взрослого человека в витамине А (в пересчете на ретинол) - 1 мг, беременных и кормящих женщин - 1,25-1,5 мг, детей первого года жизни - 0,4 мг. Потребность повышается в период развития и роста, в период беременности, а также при диабете и заболеваниях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в течение короткого времени выдерживает высокие температуры. Чувствителен к окислению кислородом воздуха и к ультрафиолетовым лучам. Лучше сохранять витамин А в темном месте. В пищевых веществах витамин А более стоек, даже при нагревани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лучше всасывается и усваивается в присутствии жиров. Провитамином А является b-каротин, из которого в организме образуется ретиналь, затем ретинол. Витамин А накапливается в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01080" cy="259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629400" cy="351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2-04-06T11:51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